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A1B2FF-EB6B-40EA-9EEF-C4A62E2C1D5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A79B2E-1E69-43AA-8931-722604E53F3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7520" y="48589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4D5486-C86F-4D99-84D3-E8755C097B2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3E0920-1CA1-4AB3-8B4F-950DA889B11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533664-28AC-43BB-AEDD-02E414DF8F4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51969C-48F4-4748-81FB-080AFC462C8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946B5F-9333-4A7F-AFDB-A1E4270A2E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6A5614-A6BA-4803-BAC7-DFE29BCD47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1B1FCD-AFF5-4CC9-802E-98400DBA90C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8CC74C-0F75-4937-BFA7-4041299C0EC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FC8-75A2-44C6-BD5E-C1C5E68A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0D7-2E78-4E9E-8D29-73DDB89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F4C-AACE-466E-A571-7CF8DDEA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D98-15C5-48D0-8DB4-30F5E423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4F3-8BA7-4BBC-A4E6-7C038D69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179-272E-41A0-B0A8-93AAECC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385-8191-481B-AB11-ADE3E4B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1B9-2860-47FD-B162-6F307E8D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CA1E-7A8A-4A6B-900B-14693A7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638D-4991-42BA-A6D9-FC58CA9A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EAC-3FFA-46CF-B308-A6BE7A5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7DC-0155-4D9E-A2D0-94DB345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8C18-4FF3-4507-930A-D72A08A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B954-C70E-4E85-B260-EF13F50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4994-3C76-4015-AAE5-E49C6BA5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9F61-E8D5-4F12-ADEF-61619EAA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870C-2CA5-49B4-971A-3464C4EC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2FD-87B0-41FD-8056-F46016D3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1DD-E63D-498F-A337-4997C1E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C64-9CEC-46FF-BCAF-C181A98D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ED3-8942-4873-80CB-94B20437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1FC-3DA3-49F9-B9B5-4CFA2A3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C40-713E-42A9-88EE-E398C0F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B55-E752-421B-B546-E60913E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8F54-6CDF-44C0-B4A2-1300E9895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3C3D-0B7A-44FA-AFD5-CF729C58D7E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1, 20.2 and 20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s: 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Immagine 1" descr="aa.tiff"/>
          <p:cNvPicPr/>
          <p:nvPr/>
        </p:nvPicPr>
        <p:blipFill>
          <a:blip r:embed="rId1"/>
          <a:srcRect l="0" t="14410" r="6943" b="2573"/>
          <a:stretch/>
        </p:blipFill>
        <p:spPr>
          <a:xfrm>
            <a:off x="2052720" y="2708280"/>
            <a:ext cx="7075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139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5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1066680" y="1828800"/>
          <a:ext cx="7086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4"/>
          <p:cNvSpPr/>
          <p:nvPr/>
        </p:nvSpPr>
        <p:spPr>
          <a:xfrm>
            <a:off x="6715080" y="6095880"/>
            <a:ext cx="2428920" cy="76212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hat about node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ith no in/out link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838080" y="1862280"/>
                <a:ext cx="5234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5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  <a:ea typeface="Arial"/>
              </a:rPr>
              <a:t>B(i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: set of pages linking to i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  <a:ea typeface="Arial"/>
              </a:rPr>
              <a:t>#out(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: number of outgoing links from j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: vector of components 1/sqrt{N}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8600" y="563868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4429080" y="1771560"/>
            <a:ext cx="185760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149160" y="167328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9" name="Group 10"/>
          <p:cNvGrpSpPr/>
          <p:nvPr/>
        </p:nvGrpSpPr>
        <p:grpSpPr>
          <a:xfrm>
            <a:off x="6566760" y="2786040"/>
            <a:ext cx="1451880" cy="1357200"/>
            <a:chOff x="6566760" y="2786040"/>
            <a:chExt cx="1451880" cy="1357200"/>
          </a:xfrm>
        </p:grpSpPr>
        <p:sp>
          <p:nvSpPr>
            <p:cNvPr id="160" name="AutoShape 11"/>
            <p:cNvSpPr/>
            <p:nvPr/>
          </p:nvSpPr>
          <p:spPr>
            <a:xfrm rot="18527400">
              <a:off x="6632640" y="3539520"/>
              <a:ext cx="647640" cy="431640"/>
            </a:xfrm>
            <a:prstGeom prst="leftArrow">
              <a:avLst>
                <a:gd name="adj1" fmla="val 50000"/>
                <a:gd name="adj2" fmla="val 3751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6566760" y="2786040"/>
              <a:ext cx="145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2" name="TextBox 12"/>
          <p:cNvSpPr/>
          <p:nvPr/>
        </p:nvSpPr>
        <p:spPr>
          <a:xfrm>
            <a:off x="1017000" y="3786120"/>
            <a:ext cx="55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r = [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3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0" lang="it-IT" sz="36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] × 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143240" y="1643040"/>
            <a:ext cx="20718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ree different interpretation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1518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ntuitive interpre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-cit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x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easy for compu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igenvector computation or a linear system sol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ov Chai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useful to prove convergenc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ort of </a:t>
            </a: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Usage Simu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4264200" y="4683600"/>
            <a:ext cx="4695840" cy="2058480"/>
            <a:chOff x="4264200" y="4683600"/>
            <a:chExt cx="4695840" cy="2058480"/>
          </a:xfrm>
        </p:grpSpPr>
        <p:sp>
          <p:nvSpPr>
            <p:cNvPr id="167" name="Oval 5"/>
            <p:cNvSpPr/>
            <p:nvPr/>
          </p:nvSpPr>
          <p:spPr>
            <a:xfrm>
              <a:off x="5559480" y="567540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 flipV="1">
              <a:off x="4416480" y="63612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4416480" y="552276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>
              <a:off x="4264200" y="6132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6473880" y="6132600"/>
              <a:ext cx="990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6171840" y="46836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6915240" y="54921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 flipV="1">
              <a:off x="6093000" y="5065560"/>
              <a:ext cx="228600" cy="6098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7392600" y="585828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5342400" y="482688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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324000" y="5084640"/>
            <a:ext cx="3816360" cy="1152360"/>
            <a:chOff x="324000" y="5084640"/>
            <a:chExt cx="3816360" cy="1152360"/>
          </a:xfrm>
        </p:grpSpPr>
        <p:sp>
          <p:nvSpPr>
            <p:cNvPr id="178" name="Rectangle 16"/>
            <p:cNvSpPr/>
            <p:nvPr/>
          </p:nvSpPr>
          <p:spPr>
            <a:xfrm>
              <a:off x="324000" y="5084640"/>
              <a:ext cx="3743280" cy="11523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447840" y="5175000"/>
              <a:ext cx="3692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Lucida Sans"/>
                </a:rPr>
                <a:t>In the steady state</a:t>
              </a:r>
              <a:r>
                <a:rPr b="0" lang="ja-JP" sz="1800" spc="-1" strike="noStrike">
                  <a:solidFill>
                    <a:srgbClr val="000000"/>
                  </a:solidFill>
                  <a:latin typeface="Lucida Sans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 each page has a long-term visit rat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- 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use this as the page</a:t>
              </a:r>
              <a:r>
                <a:rPr b="0" lang="ja-JP" sz="1800" spc="-1" strike="noStrike">
                  <a:solidFill>
                    <a:srgbClr val="3333cc"/>
                  </a:solidFill>
                  <a:latin typeface="Lucida Sans"/>
                </a:rPr>
                <a:t>’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 score.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, build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558040" y="2130480"/>
            <a:ext cx="33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4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over a Grap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the Graph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wTie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 changes (insert, delete) &gt;&gt; 50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-entries in adj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? How much to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parallelize the proc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ge sel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file has been parsed or 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fter 20 mil pages, we have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ver 200 milli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URL is at least 100 bytes on 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Overall we have about 20Gb of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ptions:  compress URLs in main memory, or use dis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Mercator,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so, two-level indexing with Front-coding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Link Extracto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Downloaders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 of lif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108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109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11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113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116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ks are given to Central coordinator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?bottleneck?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download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6500880" y="155736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download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owloader x fetch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  <a:ea typeface="MS PGothic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servers mapped to unit circ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MS PGothic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  <a:ea typeface="MS PGothic"/>
              </a:rPr>
              <a:t>What if a download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  <a:ea typeface="MS PGothic"/>
              </a:rPr>
              <a:t>What if a new download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0"/>
          <p:cNvGrpSpPr/>
          <p:nvPr/>
        </p:nvGrpSpPr>
        <p:grpSpPr>
          <a:xfrm>
            <a:off x="4143240" y="3857760"/>
            <a:ext cx="4954320" cy="2285640"/>
            <a:chOff x="4143240" y="3857760"/>
            <a:chExt cx="4954320" cy="2285640"/>
          </a:xfrm>
        </p:grpSpPr>
        <p:sp>
          <p:nvSpPr>
            <p:cNvPr id="128" name="Text Box 8"/>
            <p:cNvSpPr/>
            <p:nvPr/>
          </p:nvSpPr>
          <p:spPr>
            <a:xfrm>
              <a:off x="4582080" y="3875040"/>
              <a:ext cx="412776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ne old to the new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ny server gets 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4143240" y="3857760"/>
              <a:ext cx="4954320" cy="2285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25T08:20:12Z</dcterms:modified>
  <cp:revision>1186</cp:revision>
  <dc:subject/>
  <dc:title>Web Algorithmics</dc:title>
</cp:coreProperties>
</file>